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5BB-D951-475F-B90F-4AE5980D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247-CDE0-47DD-A7AE-6B8DB13B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5AC-CB96-4316-90F2-8FD50F13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119-2916-4194-ADB4-AED596CE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322-5B57-441C-A29C-9F99CB84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05F-0891-4758-AADC-86C756AE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5EA-EF5A-4844-99F2-967220E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2F3-D68B-4912-854A-2709F9F4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DA9-D982-4C93-B81A-9852F744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12C-D718-4A44-9DF1-A5E281A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02B-B268-45EC-A285-89B33C5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55C-D3B6-432B-823D-32DAA23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7E68F-4D4B-4D45-B4A6-69126E8864B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E8BB7-F449-4737-B10C-EC28349466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hiladelphia Conven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2- The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41-4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031840" y="1724040"/>
            <a:ext cx="5080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Objectiv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aluate how the Constitutional Convention dealt with issues of equa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mmarize the major compromises of the Constitutional Conven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 why economic issues were high on the agenda at the Constitutional Convention and how the framers tried to strengthen the economic powers of the new national govern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hiladelphia Conven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4320" y="1600200"/>
            <a:ext cx="445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5 delegates met in May 1787 to amend the Articles of Confed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andoned Articles and began writing the U.S.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57200" y="2333520"/>
            <a:ext cx="40813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Task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common views did the delegates have regar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uman Natur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olitical Conflic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he Objects of Government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he Nature of Governmen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80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nical view of human n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motivated by power and mone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vernment should control the natural self-interest of the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261040" y="1417680"/>
            <a:ext cx="2539800" cy="301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6073920" y="3697200"/>
            <a:ext cx="2612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7440" y="1600200"/>
            <a:ext cx="47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tical Conflic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ison’s Vie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nequal distribution of wealth led to confli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flict led to the development of fa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ctions led to instability, violence, and tyrann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vernment needed to limit the power of fac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334120" y="1887480"/>
            <a:ext cx="3352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7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bject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tection of Property and Wealth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Secur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ation of Ord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motion of General Welf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345280" y="2322360"/>
            <a:ext cx="3341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e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vored a limited govern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ecks on power would limit fa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808360" y="3573360"/>
            <a:ext cx="3287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3:45:15Z</dcterms:created>
  <dc:creator>Katie Madison</dc:creator>
  <dc:description/>
  <dc:language>en-US</dc:language>
  <cp:lastModifiedBy>Katie Madison</cp:lastModifiedBy>
  <dcterms:modified xsi:type="dcterms:W3CDTF">2010-08-31T14:17:29Z</dcterms:modified>
  <cp:revision>2</cp:revision>
  <dc:subject/>
  <dc:title>The Philadelphia Convention </dc:title>
</cp:coreProperties>
</file>